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9C4BAC-8CEB-41D7-AFFF-B19C1ECD1A8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1F2212-61D4-4107-B6F8-1986528F0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AEBEA6-926C-478B-856E-8A83E33C0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0832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1964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29700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0832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1964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ED0051-923B-43C8-BD81-8E593B68710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25520" y="1182600"/>
            <a:ext cx="807696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BC21B9-1958-4CC4-AED6-4F91D8B10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0832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11964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29700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0832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11964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B6E06-CF69-4D5D-8AA1-8C511B88C9C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E245D-229B-4BE6-9C1D-D92BD670B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BDC3E-2171-425F-9A42-9231044E9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DF73D-A885-4E76-A00E-6A5017895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8C236-E8C0-42C7-A84E-DE5F93803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963A6C-6790-4EDC-BE08-DF0C68E50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25520" y="1182600"/>
            <a:ext cx="807696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43FF5-9DC3-49C2-BF4B-7A285BA8F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68510-BBFA-498D-8D83-F3F0E1B61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EB8C5-3B6C-46DD-90D2-87432DA95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7066B-3C75-4CD7-B44A-AFF891D3D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B30B0-C55B-4509-B4E2-798A838B9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69DB9-3E98-408E-B2EB-E7B6457F1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0832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11964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29700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0832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11964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CE62C-F166-4FCB-89F9-AB62A27758C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8C65908-AAF2-412E-9EE3-29F4DD3CF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4C292E9-7699-4F0C-84CD-709029099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B141E99-BAA7-46DE-BFE6-CAFDF771D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48AD9E-4F87-405F-8869-1E12BA720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0FFFFBC-3E45-41C8-826E-1435343C2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3F04CF3-30A7-40B3-9D5F-D329FF580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25520" y="1182600"/>
            <a:ext cx="807696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55279A3-DE3C-4C07-BA3E-5C253E0F9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F721CD8-0C6B-4905-B42F-AD1C5B75F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CBD4B8B-4B4D-4144-941A-F5120FFFC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EDCB2A4-D309-4CE1-9685-559C4C1E9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B4D6673-44F1-4E8E-8461-097E638BD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82A272C-4DD5-440B-B4D8-B86C60B60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0832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11964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29700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0832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11964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29032E1-FE1B-45E5-94FA-4B4664F9D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DCFA26-24E4-4815-9739-36C46E8B9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25520" y="1182600"/>
            <a:ext cx="807696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8B54AD-8B80-468F-8D39-C1AB34395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C7BF9B-5AFC-412C-B68B-42F358F56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4146AD-D6F2-4B16-BF3F-E5C209C11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2FE5B4-E944-44B7-B1F6-C5D082ACF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Click to edit the outline text format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con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Thir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3" marL="16002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our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4" marL="20574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if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ix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ven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A8590-C23E-4DC2-8E0E-8DE2C48A1D58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425520" y="118260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42840" y="0"/>
            <a:ext cx="9144000" cy="2089080"/>
            <a:chOff x="4284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71280" y="0"/>
              <a:ext cx="9115560" cy="1790640"/>
              <a:chOff x="7128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7128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7128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4284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8160" y="2491920"/>
            <a:ext cx="8077320" cy="224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07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08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52910-D624-49CC-A4B9-B45C06AA9C14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0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1" name="Picture 10" descr=""/>
          <p:cNvPicPr/>
          <p:nvPr/>
        </p:nvPicPr>
        <p:blipFill>
          <a:blip r:embed="rId4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body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Click to edit the outline text format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con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Thir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3" marL="16002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our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4" marL="20574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if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ix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ven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425520" y="118260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sldNum" idx="3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5462C-A4F1-4B8E-9C73-E922E3A61F19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dt" idx="4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6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body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Click to edit the outline text format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con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Thir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3" marL="16002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our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4" marL="20574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if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ix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ven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title"/>
          </p:nvPr>
        </p:nvSpPr>
        <p:spPr>
          <a:xfrm>
            <a:off x="425520" y="118260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dt" idx="5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sldNum" idx="7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3EC17-5739-407F-BE63-ADFBA55ED267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2"/>
          <p:cNvSpPr/>
          <p:nvPr/>
        </p:nvSpPr>
        <p:spPr>
          <a:xfrm>
            <a:off x="-1746360" y="1773360"/>
            <a:ext cx="8496360" cy="30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r>
              <a:rPr b="1" lang="zh-CN" sz="66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七节  </a:t>
            </a:r>
            <a:endParaRPr b="0" lang="en-US" sz="6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华文新魏"/>
                <a:ea typeface="华文新魏"/>
              </a:rPr>
              <a:t>老年痴呆</a:t>
            </a:r>
            <a:br>
              <a:rPr sz="6600"/>
            </a:br>
            <a:endParaRPr b="0" lang="en-US" sz="6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855360" y="2071440"/>
            <a:ext cx="74912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1.  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记忆障碍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ts val="4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              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早期阶段表现为丧失近期记忆，患者不能记忆当天发生的日常琐事，记不得刚做过的事或讲过的话，忘记少用的名词、约会或贵重物件放于何处，易忘记不常用的名字，常重复发问，以前熟悉的名字易搞混，词汇减少，远事记忆可相对保留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46" name="Rectangle 5"/>
          <p:cNvSpPr/>
          <p:nvPr/>
        </p:nvSpPr>
        <p:spPr>
          <a:xfrm>
            <a:off x="428760" y="571680"/>
            <a:ext cx="607212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2060"/>
                </a:solidFill>
                <a:latin typeface="华文新魏"/>
                <a:ea typeface="华文新魏"/>
              </a:rPr>
              <a:t>主要功能障碍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矩形 1"/>
          <p:cNvSpPr/>
          <p:nvPr/>
        </p:nvSpPr>
        <p:spPr>
          <a:xfrm>
            <a:off x="673200" y="981000"/>
            <a:ext cx="748800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知识链接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    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00000"/>
                </a:solidFill>
                <a:latin typeface="Arial"/>
                <a:ea typeface="宋体"/>
              </a:rPr>
              <a:t>美国前总统里根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46ca6"/>
                </a:solidFill>
                <a:latin typeface="楷体"/>
                <a:ea typeface="楷体"/>
              </a:rPr>
              <a:t>    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美国前总统里根是个最典型的例子。在</a:t>
            </a: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90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年代初，里根就有记忆下降的征兆，比如忘记刚说过的话。有次聊天中他女儿说起里根演过一个电影角色，里根却怎么也想不起来。不出一年，里根就被诊断为老年性痴呆，可已过了疾病的早期。最后，他除了认识夫人南希外，谁也不认识了，甚至不记得自己担任过两届美国总统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/>
          </p:nvPr>
        </p:nvSpPr>
        <p:spPr>
          <a:xfrm>
            <a:off x="855360" y="2071440"/>
            <a:ext cx="74912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．语言障碍 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 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ts val="4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       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词汇量减少，谈话中因找词困难而不连贯，逐渐语无伦次，理解力差，不能参与交谈，最后只能发出别人不能理解的声音，甚至缄默，书写困难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49" name="Rectangle 5"/>
          <p:cNvSpPr/>
          <p:nvPr/>
        </p:nvSpPr>
        <p:spPr>
          <a:xfrm>
            <a:off x="428760" y="571680"/>
            <a:ext cx="607212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2060"/>
                </a:solidFill>
                <a:latin typeface="华文新魏"/>
                <a:ea typeface="华文新魏"/>
              </a:rPr>
              <a:t>主要功能障碍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0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/>
          </p:nvPr>
        </p:nvSpPr>
        <p:spPr>
          <a:xfrm>
            <a:off x="855360" y="2071440"/>
            <a:ext cx="74912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3. 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视空间技能障碍  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ts val="4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      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失去大部分认识能力，如学习、判断及思考能力。接受新资讯有困难；对时间及方向感觉混乱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51" name="Rectangle 5"/>
          <p:cNvSpPr/>
          <p:nvPr/>
        </p:nvSpPr>
        <p:spPr>
          <a:xfrm>
            <a:off x="428760" y="571680"/>
            <a:ext cx="607212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2060"/>
                </a:solidFill>
                <a:latin typeface="华文新魏"/>
                <a:ea typeface="华文新魏"/>
              </a:rPr>
              <a:t>主要功能障碍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0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/>
          </p:nvPr>
        </p:nvSpPr>
        <p:spPr>
          <a:xfrm>
            <a:off x="855360" y="2071440"/>
            <a:ext cx="74912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．失用和失认  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ts val="4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      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面容认知不能者，不认识亲人和熟悉朋友的面容。患者甚至不能认出和写出自己的名字。自我认知受损，产生镜子征，即：患者坐在镜子前与镜子中自己的影像说话，甚至问自己的影像是谁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53" name="Rectangle 5"/>
          <p:cNvSpPr/>
          <p:nvPr/>
        </p:nvSpPr>
        <p:spPr>
          <a:xfrm>
            <a:off x="428760" y="571680"/>
            <a:ext cx="607212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2060"/>
                </a:solidFill>
                <a:latin typeface="华文新魏"/>
                <a:ea typeface="华文新魏"/>
              </a:rPr>
              <a:t>主要功能障碍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0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/>
          </p:nvPr>
        </p:nvSpPr>
        <p:spPr>
          <a:xfrm>
            <a:off x="855360" y="2071440"/>
            <a:ext cx="74912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． 判断、计算障碍  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ts val="4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     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出现判断力差、概括能力丧失。简单的加减法运算困难，严重者甚至不认识数字和算术符号，也不能回答检查者伸出几个手指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55" name="Rectangle 5"/>
          <p:cNvSpPr/>
          <p:nvPr/>
        </p:nvSpPr>
        <p:spPr>
          <a:xfrm>
            <a:off x="428760" y="571680"/>
            <a:ext cx="607212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2060"/>
                </a:solidFill>
                <a:latin typeface="华文新魏"/>
                <a:ea typeface="华文新魏"/>
              </a:rPr>
              <a:t>主要功能障碍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0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/>
          </p:nvPr>
        </p:nvSpPr>
        <p:spPr>
          <a:xfrm>
            <a:off x="855360" y="2071440"/>
            <a:ext cx="74912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6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．精神功能性精神障碍  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ts val="4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     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表现为坐立不安、多疑、易激动，淡漠、焦虑、抑郁，可出现妄想、错觉、幻觉、伤人毁物行为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57" name="Rectangle 5"/>
          <p:cNvSpPr/>
          <p:nvPr/>
        </p:nvSpPr>
        <p:spPr>
          <a:xfrm>
            <a:off x="428760" y="571680"/>
            <a:ext cx="607212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2060"/>
                </a:solidFill>
                <a:latin typeface="华文新魏"/>
                <a:ea typeface="华文新魏"/>
              </a:rPr>
              <a:t>主要功能障碍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0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/>
          </p:nvPr>
        </p:nvSpPr>
        <p:spPr>
          <a:xfrm>
            <a:off x="855360" y="2071440"/>
            <a:ext cx="74912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7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．自理能力障碍  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ts val="4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     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由于老年痴呆患者记忆力、定向力和判断力障碍，日常起居生活、自我照顾能力减退。轻者可忘记服药、进食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,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或外出时自己不能回家；重者则不懂穿衣、如厕和洗浴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59" name="Rectangle 5"/>
          <p:cNvSpPr/>
          <p:nvPr/>
        </p:nvSpPr>
        <p:spPr>
          <a:xfrm>
            <a:off x="428760" y="571680"/>
            <a:ext cx="607212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2060"/>
                </a:solidFill>
                <a:latin typeface="华文新魏"/>
                <a:ea typeface="华文新魏"/>
              </a:rPr>
              <a:t>主要功能障碍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28400" y="714240"/>
            <a:ext cx="5655960" cy="66384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三、康复护理评估</a:t>
            </a:r>
            <a:endParaRPr b="1" lang="en-US" sz="3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285560" y="2214360"/>
            <a:ext cx="74912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基本原则</a:t>
            </a: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ts val="4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早期发现、早期干预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ts val="4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康复后效果评价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0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28400" y="714240"/>
            <a:ext cx="5655960" cy="66384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三、康复护理评估</a:t>
            </a:r>
            <a:endParaRPr b="1" lang="en-US" sz="40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4000" y="1628640"/>
            <a:ext cx="7848360" cy="43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ts val="4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（一）痴呆筛选量表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1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．简易精神量表</a:t>
            </a: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(mini -mental state examination,MMSE)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该量表最高得分为</a:t>
            </a: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30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分，分数在</a:t>
            </a: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27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～</a:t>
            </a: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30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分为正常，分数＜</a:t>
            </a: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27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为认知功能障碍。痴呆严重程度分级方法：轻度</a:t>
            </a: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MMSE≥21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分；中度</a:t>
            </a: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MMSE 10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～</a:t>
            </a: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20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分；重度</a:t>
            </a: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MMSE≤9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分，具体内容参见第三章康复护理评价。</a:t>
            </a:r>
            <a:endParaRPr b="1" lang="en-US" sz="24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2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．哈金斯基缺血指数</a:t>
            </a: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(Huggins ischemia Index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，</a:t>
            </a: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HIS)  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可区分两种主要类型</a:t>
            </a: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AD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和（</a:t>
            </a: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multi-infarct dementia,MID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）的痴呆。总分</a:t>
            </a: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18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分；</a:t>
            </a: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≥</a:t>
            </a: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7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分，考虑</a:t>
            </a: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MID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；</a:t>
            </a: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≤</a:t>
            </a: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4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分考虑</a:t>
            </a: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AD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；</a:t>
            </a: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4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～</a:t>
            </a: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7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分考虑混合型痴呆</a:t>
            </a:r>
            <a:endParaRPr b="1" lang="en-US" sz="24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0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57E71-DF74-4417-BD22-51E7BC371C40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25520" y="118260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669b"/>
                </a:solidFill>
                <a:latin typeface="华文新魏"/>
                <a:ea typeface="华文新魏"/>
              </a:rPr>
              <a:t>主要内容</a:t>
            </a:r>
            <a:endParaRPr b="1" lang="en-US" sz="48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258560" y="1844280"/>
            <a:ext cx="703116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概述</a:t>
            </a: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主要功能障碍</a:t>
            </a: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康复护理评估</a:t>
            </a: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康复护理措施</a:t>
            </a: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康复护理指导</a:t>
            </a: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矩形 1"/>
          <p:cNvSpPr/>
          <p:nvPr/>
        </p:nvSpPr>
        <p:spPr>
          <a:xfrm>
            <a:off x="611280" y="2060640"/>
            <a:ext cx="799308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70c0"/>
                </a:solidFill>
                <a:latin typeface="楷体"/>
                <a:ea typeface="楷体"/>
              </a:rPr>
              <a:t>3</a:t>
            </a:r>
            <a:r>
              <a:rPr b="1" lang="zh-CN" sz="2600" spc="-1" strike="noStrike">
                <a:solidFill>
                  <a:srgbClr val="0070c0"/>
                </a:solidFill>
                <a:latin typeface="楷体"/>
                <a:ea typeface="楷体"/>
              </a:rPr>
              <a:t>．临床痴呆评定量表</a:t>
            </a:r>
            <a:r>
              <a:rPr b="1" lang="en-US" sz="2600" spc="-1" strike="noStrike">
                <a:solidFill>
                  <a:srgbClr val="0070c0"/>
                </a:solidFill>
                <a:latin typeface="楷体"/>
                <a:ea typeface="楷体"/>
              </a:rPr>
              <a:t>(clinical dementia rating, CDR)  </a:t>
            </a:r>
            <a:r>
              <a:rPr b="1" lang="zh-CN" sz="2600" spc="-1" strike="noStrike">
                <a:solidFill>
                  <a:srgbClr val="0070c0"/>
                </a:solidFill>
                <a:latin typeface="楷体"/>
                <a:ea typeface="楷体"/>
              </a:rPr>
              <a:t>评估痴呆的严重程度，该量表从记忆力、定向力、判断力和解决问题能力、社会事务、家庭和爱好及个人料理等六项内容进行评级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70c0"/>
                </a:solidFill>
                <a:latin typeface="楷体"/>
                <a:ea typeface="楷体"/>
              </a:rPr>
              <a:t>4</a:t>
            </a:r>
            <a:r>
              <a:rPr b="1" lang="zh-CN" sz="2600" spc="-1" strike="noStrike">
                <a:solidFill>
                  <a:srgbClr val="0070c0"/>
                </a:solidFill>
                <a:latin typeface="楷体"/>
                <a:ea typeface="楷体"/>
              </a:rPr>
              <a:t>．长谷川简易痴呆量表</a:t>
            </a:r>
            <a:r>
              <a:rPr b="1" lang="en-US" sz="2600" spc="-1" strike="noStrike">
                <a:solidFill>
                  <a:srgbClr val="0070c0"/>
                </a:solidFill>
                <a:latin typeface="楷体"/>
                <a:ea typeface="楷体"/>
              </a:rPr>
              <a:t>(Hastgawa Dementia Scale, HDS)  </a:t>
            </a:r>
            <a:r>
              <a:rPr b="1" lang="zh-CN" sz="2600" spc="-1" strike="noStrike">
                <a:solidFill>
                  <a:srgbClr val="0070c0"/>
                </a:solidFill>
                <a:latin typeface="楷体"/>
                <a:ea typeface="楷体"/>
              </a:rPr>
              <a:t>长谷川痴呆量表简单实用，我国学者根据我国国情，按文化程度将其评分标准化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5" name="Rectangle 4"/>
          <p:cNvSpPr/>
          <p:nvPr/>
        </p:nvSpPr>
        <p:spPr>
          <a:xfrm>
            <a:off x="428760" y="714240"/>
            <a:ext cx="5655960" cy="66384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三、康复护理评估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0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4"/>
          <p:cNvSpPr/>
          <p:nvPr/>
        </p:nvSpPr>
        <p:spPr>
          <a:xfrm>
            <a:off x="428760" y="714240"/>
            <a:ext cx="5655960" cy="66384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三、康复护理评估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7" name="矩形 2"/>
          <p:cNvSpPr/>
          <p:nvPr/>
        </p:nvSpPr>
        <p:spPr>
          <a:xfrm>
            <a:off x="250920" y="1773360"/>
            <a:ext cx="8715240" cy="53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（二）记忆力、注意力评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  <a:ea typeface="楷体"/>
              </a:rPr>
              <a:t>1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  <a:ea typeface="楷体"/>
              </a:rPr>
              <a:t>．记忆力评价量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  <a:ea typeface="楷体"/>
              </a:rPr>
              <a:t>   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  <a:ea typeface="楷体"/>
              </a:rPr>
              <a:t>1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  <a:ea typeface="楷体"/>
              </a:rPr>
              <a:t>）韦氏记忆量表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  <a:ea typeface="楷体"/>
              </a:rPr>
              <a:t>(Wechsler Memory Scale WMS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楷体"/>
                <a:ea typeface="楷体"/>
              </a:rPr>
              <a:t> 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  <a:ea typeface="楷体"/>
              </a:rPr>
              <a:t>  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  <a:ea typeface="楷体"/>
              </a:rPr>
              <a:t>2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  <a:ea typeface="楷体"/>
              </a:rPr>
              <a:t>）词语流畅性测验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  <a:ea typeface="楷体"/>
              </a:rPr>
              <a:t>(Verbal Fluency Test, VFT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  <a:ea typeface="楷体"/>
              </a:rPr>
              <a:t>2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  <a:ea typeface="楷体"/>
              </a:rPr>
              <a:t>．注意力评价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  <a:ea typeface="楷体"/>
              </a:rPr>
              <a:t>   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  <a:ea typeface="楷体"/>
              </a:rPr>
              <a:t>1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  <a:ea typeface="楷体"/>
              </a:rPr>
              <a:t>）连线测验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  <a:ea typeface="楷体"/>
              </a:rPr>
              <a:t>(Trail Marking Test,TMT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  <a:ea typeface="楷体"/>
              </a:rPr>
              <a:t>   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  <a:ea typeface="楷体"/>
              </a:rPr>
              <a:t>2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  <a:ea typeface="楷体"/>
              </a:rPr>
              <a:t>）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  <a:ea typeface="楷体"/>
              </a:rPr>
              <a:t>Stroop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  <a:ea typeface="楷体"/>
              </a:rPr>
              <a:t>色词测验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  <a:ea typeface="楷体"/>
              </a:rPr>
              <a:t>(Stroop Color Word Test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0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/>
          </p:nvPr>
        </p:nvSpPr>
        <p:spPr>
          <a:xfrm>
            <a:off x="394920" y="1628280"/>
            <a:ext cx="82090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（三）老年痴呆的身体功能评估量表 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楷体"/>
              </a:rPr>
              <a:t>日常生活能力量表</a:t>
            </a:r>
            <a:r>
              <a:rPr b="1" lang="en-US" sz="3200" spc="-1" strike="noStrike">
                <a:solidFill>
                  <a:srgbClr val="0070c0"/>
                </a:solidFill>
                <a:latin typeface="楷体"/>
              </a:rPr>
              <a:t>(Activity of Daily Living Scale, ADL)</a:t>
            </a:r>
            <a:r>
              <a:rPr b="1" lang="zh-CN" sz="3200" spc="-1" strike="noStrike">
                <a:solidFill>
                  <a:srgbClr val="0070c0"/>
                </a:solidFill>
                <a:latin typeface="楷体"/>
              </a:rPr>
              <a:t>是较常用的评估老年痴呆患者身体功能的量表。</a:t>
            </a:r>
            <a:r>
              <a:rPr b="1" lang="en-US" sz="3200" spc="-1" strike="noStrike">
                <a:solidFill>
                  <a:srgbClr val="0070c0"/>
                </a:solidFill>
                <a:latin typeface="楷体"/>
              </a:rPr>
              <a:t>ADL</a:t>
            </a:r>
            <a:r>
              <a:rPr b="1" lang="zh-CN" sz="3200" spc="-1" strike="noStrike">
                <a:solidFill>
                  <a:srgbClr val="0070c0"/>
                </a:solidFill>
                <a:latin typeface="楷体"/>
              </a:rPr>
              <a:t>共有</a:t>
            </a:r>
            <a:r>
              <a:rPr b="1" lang="en-US" sz="3200" spc="-1" strike="noStrike">
                <a:solidFill>
                  <a:srgbClr val="0070c0"/>
                </a:solidFill>
                <a:latin typeface="楷体"/>
              </a:rPr>
              <a:t>14</a:t>
            </a:r>
            <a:r>
              <a:rPr b="1" lang="zh-CN" sz="3200" spc="-1" strike="noStrike">
                <a:solidFill>
                  <a:srgbClr val="0070c0"/>
                </a:solidFill>
                <a:latin typeface="楷体"/>
              </a:rPr>
              <a:t>项，包括两部分内容：一是躯体生活自理量表，共</a:t>
            </a:r>
            <a:r>
              <a:rPr b="1" lang="en-US" sz="3200" spc="-1" strike="noStrike">
                <a:solidFill>
                  <a:srgbClr val="0070c0"/>
                </a:solidFill>
                <a:latin typeface="楷体"/>
              </a:rPr>
              <a:t>6</a:t>
            </a:r>
            <a:r>
              <a:rPr b="1" lang="zh-CN" sz="3200" spc="-1" strike="noStrike">
                <a:solidFill>
                  <a:srgbClr val="0070c0"/>
                </a:solidFill>
                <a:latin typeface="楷体"/>
              </a:rPr>
              <a:t>项：上厕所、进食、穿衣、梳洗、行走和洗澡；二是工具性日常生活能力量表，共</a:t>
            </a:r>
            <a:r>
              <a:rPr b="1" lang="en-US" sz="3200" spc="-1" strike="noStrike">
                <a:solidFill>
                  <a:srgbClr val="0070c0"/>
                </a:solidFill>
                <a:latin typeface="楷体"/>
              </a:rPr>
              <a:t>8</a:t>
            </a:r>
            <a:r>
              <a:rPr b="1" lang="zh-CN" sz="3200" spc="-1" strike="noStrike">
                <a:solidFill>
                  <a:srgbClr val="0070c0"/>
                </a:solidFill>
                <a:latin typeface="楷体"/>
              </a:rPr>
              <a:t>项：打电话、购物、备餐、做家务、洗衣、使用交通工具、服药和自理经济</a:t>
            </a:r>
            <a:r>
              <a:rPr b="1" lang="en-US" sz="3200" spc="-1" strike="noStrike">
                <a:solidFill>
                  <a:srgbClr val="0070c0"/>
                </a:solidFill>
                <a:latin typeface="楷体"/>
              </a:rPr>
              <a:t>8</a:t>
            </a:r>
            <a:r>
              <a:rPr b="1" lang="zh-CN" sz="3200" spc="-1" strike="noStrike">
                <a:solidFill>
                  <a:srgbClr val="0070c0"/>
                </a:solidFill>
                <a:latin typeface="楷体"/>
              </a:rPr>
              <a:t>项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69" name="Rectangle 4"/>
          <p:cNvSpPr/>
          <p:nvPr/>
        </p:nvSpPr>
        <p:spPr>
          <a:xfrm>
            <a:off x="428760" y="714240"/>
            <a:ext cx="5655960" cy="66384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三、康复护理评估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0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矩形 1"/>
          <p:cNvSpPr/>
          <p:nvPr/>
        </p:nvSpPr>
        <p:spPr>
          <a:xfrm>
            <a:off x="684360" y="1268280"/>
            <a:ext cx="7991280" cy="20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案例</a:t>
            </a:r>
            <a:r>
              <a:rPr b="1" lang="en-US" sz="2800" spc="-1" strike="noStrike">
                <a:solidFill>
                  <a:srgbClr val="ff0000"/>
                </a:solidFill>
                <a:latin typeface="楷体"/>
                <a:ea typeface="楷体"/>
              </a:rPr>
              <a:t>6-7B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该患者经服用氟哌啶醇恐惧、紧张、失眠、出汗症状明显好转，但近半年来记忆力减退，吃完饭</a:t>
            </a: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30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分钟后问及饭菜不能回答，去医院看病因不认识路不能回家，说话经常忘词，对家务活动漠不关心。头部</a:t>
            </a: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CT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检查提示脑室扩大和皮质萎缩、脑沟变宽。脑电图可见非特异性的弥漫性慢波，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α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波节律变慢、波幅变低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问题与思考：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楷体"/>
                <a:ea typeface="楷体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该患者应介入哪些康复护理措施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71680" y="785520"/>
            <a:ext cx="5425920" cy="6634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endParaRPr b="1" lang="en-US" sz="3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72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A7A07-25CE-48D7-96B5-E989A95B15AB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26920" y="2133720"/>
            <a:ext cx="7490160" cy="371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老年痴呆病程长，进展缓慢，约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7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个月至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11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年。老年性痴呆康复的目的不是回归社会，而是控制症状和延缓发展进程，最大限度地维持残疾功能，延长生命，提高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AD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患者的生活质量。老年痴呆患者的康复护理，一般是围绕着记忆训练、注意力训练以及其他认知功能的训练等环节进行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0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71680" y="785520"/>
            <a:ext cx="5425920" cy="6634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endParaRPr b="1" lang="en-US" sz="3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75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ADE6E-F1CD-4E87-B90C-A96D6E07EF67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26560" y="2133720"/>
            <a:ext cx="5689800" cy="371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个基本原则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 </a:t>
            </a: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活用痴呆者的残存能力；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维持和促进身体功能；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重视痴呆者的自我决定权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0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E8C42-3861-497B-B9DD-FF0A743E8347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/>
          </p:nvPr>
        </p:nvSpPr>
        <p:spPr>
          <a:xfrm>
            <a:off x="285480" y="2643120"/>
            <a:ext cx="864396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399"/>
              </a:lnSpc>
              <a:spcBef>
                <a:spcPts val="700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反复训练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ts val="3399"/>
              </a:lnSpc>
              <a:spcBef>
                <a:spcPts val="700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制订生活作息时间表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ts val="3399"/>
              </a:lnSpc>
              <a:spcBef>
                <a:spcPts val="700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活动安排：看电视、玩扑克、下跳棋、玩智力拼图、看电视、听音乐、看报纸、读杂志等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ts val="3399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ts val="29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ts val="29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79" name="Rectangle 5"/>
          <p:cNvSpPr/>
          <p:nvPr/>
        </p:nvSpPr>
        <p:spPr>
          <a:xfrm>
            <a:off x="928800" y="1928880"/>
            <a:ext cx="5371920" cy="571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华文新魏"/>
              </a:rPr>
              <a:t>（一）记忆功能训练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title"/>
          </p:nvPr>
        </p:nvSpPr>
        <p:spPr>
          <a:xfrm>
            <a:off x="500040" y="642960"/>
            <a:ext cx="5425920" cy="7351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endParaRPr b="1" lang="en-US" sz="3400" spc="-1" strike="noStrike">
              <a:solidFill>
                <a:srgbClr val="00206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0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矩形 1"/>
          <p:cNvSpPr/>
          <p:nvPr/>
        </p:nvSpPr>
        <p:spPr>
          <a:xfrm>
            <a:off x="395280" y="549360"/>
            <a:ext cx="8137440" cy="16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知识链接</a:t>
            </a:r>
            <a:r>
              <a:rPr b="1" i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     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楷体"/>
                <a:ea typeface="楷体"/>
              </a:rPr>
              <a:t> </a:t>
            </a: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缅怀治疗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缅怀治疗是利用患者所拥有的记忆做媒介，去鼓励患者与人沟通及交往，是老年痴呆患者记忆训练的有效方法。缅怀可有多种形式，包括个别回想、与人面谈、小组分享、展览及话剧等。理论基础源于</a:t>
            </a: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Erikson(1950)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对人生发展过程的理论。人到晚年，回忆往事是一个很自然的过程，如能借此过程解决一些从未能解决的问题和矛盾，整个人生便能达致整合，若未成功，一生变得“绝望”。一般缅怀活动，会柔和开心与不快的回忆，是两者有机结合，从而增进老年痴呆患者的生活满足感，减低抑郁，改善生活质量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B5CC4-13F7-45C4-82D0-BEDC3F75F44B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/>
          </p:nvPr>
        </p:nvSpPr>
        <p:spPr>
          <a:xfrm>
            <a:off x="1504440" y="2644560"/>
            <a:ext cx="4070520" cy="38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399"/>
              </a:lnSpc>
              <a:spcBef>
                <a:spcPts val="700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时间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ts val="3399"/>
              </a:lnSpc>
              <a:spcBef>
                <a:spcPts val="700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地点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ts val="3399"/>
              </a:lnSpc>
              <a:spcBef>
                <a:spcPts val="700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人物认知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ts val="29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ts val="29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84" name="Rectangle 5"/>
          <p:cNvSpPr/>
          <p:nvPr/>
        </p:nvSpPr>
        <p:spPr>
          <a:xfrm>
            <a:off x="928800" y="1928880"/>
            <a:ext cx="4867200" cy="571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华文新魏"/>
              </a:rPr>
              <a:t>（二）定向能力训练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5" name="Rectangle 5"/>
          <p:cNvSpPr/>
          <p:nvPr/>
        </p:nvSpPr>
        <p:spPr>
          <a:xfrm>
            <a:off x="500040" y="642960"/>
            <a:ext cx="5425920" cy="7351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endParaRPr b="0" lang="en-US" sz="3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0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0651E-693E-4CF1-B44A-495DB8430B87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/>
          </p:nvPr>
        </p:nvSpPr>
        <p:spPr>
          <a:xfrm>
            <a:off x="928440" y="2708280"/>
            <a:ext cx="719748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对不同原因引起的语言障碍采用不同的训练方式，如运动性失语，应着重给患者示范口形，面对面地教，循序渐进反复练习。对命名性失语患者，应让患者有意识地反复说出事物的名称，强化记忆，坚持听、说、读、写训练。还可进行口语对话、唇及口型训练、物品命名、词句和书写、计算、记忆等训练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ts val="29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ts val="29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88" name="Rectangle 5"/>
          <p:cNvSpPr/>
          <p:nvPr/>
        </p:nvSpPr>
        <p:spPr>
          <a:xfrm>
            <a:off x="928800" y="1901880"/>
            <a:ext cx="7605720" cy="571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华文新魏"/>
              </a:rPr>
              <a:t>（三）语言能力障碍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9" name="Rectangle 5"/>
          <p:cNvSpPr/>
          <p:nvPr/>
        </p:nvSpPr>
        <p:spPr>
          <a:xfrm>
            <a:off x="500040" y="642960"/>
            <a:ext cx="5425920" cy="7351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endParaRPr b="0" lang="en-US" sz="3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0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-1549440" y="119700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Verdana"/>
                <a:ea typeface="华文新魏"/>
              </a:rPr>
              <a:t>学习目标</a:t>
            </a:r>
            <a:endParaRPr b="1" lang="en-US" sz="40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899640" y="2708280"/>
            <a:ext cx="7634520" cy="2928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4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"/>
              </a:rPr>
              <a:t>识记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     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陈述老年期痴呆的概念、主要功能障碍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"/>
              </a:rPr>
              <a:t>理解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     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解释老年期痴呆分类、康复护理评估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"/>
              </a:rPr>
              <a:t>运用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     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针对老年期痴呆患者的功能障碍制订康复护理计划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04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C68D9-19B6-4232-BD17-C97923813F8F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06198-B919-4F4A-9628-407A7B31B64E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/>
          </p:nvPr>
        </p:nvSpPr>
        <p:spPr>
          <a:xfrm>
            <a:off x="933120" y="2646000"/>
            <a:ext cx="7095960" cy="33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在日常生活中，根据功能状况做一些洗碗、扫地、递东西、买东西等简单家务，使他们在头脑中建立新的条件反射，以维持各种功能。经常陪同患者去散步，呼吸室外新鲜空气，练习打太极拳，观赏盆景花鸟，并根据患者的兴趣爱好，安排听音乐、看电视、下象棋等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92" name="Rectangle 5"/>
          <p:cNvSpPr/>
          <p:nvPr/>
        </p:nvSpPr>
        <p:spPr>
          <a:xfrm>
            <a:off x="930240" y="1928880"/>
            <a:ext cx="6450120" cy="571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华文新魏"/>
              </a:rPr>
              <a:t>（四）日常生活活动能力训练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3" name="Rectangle 5"/>
          <p:cNvSpPr/>
          <p:nvPr/>
        </p:nvSpPr>
        <p:spPr>
          <a:xfrm>
            <a:off x="500040" y="642960"/>
            <a:ext cx="5425920" cy="7351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endParaRPr b="0" lang="en-US" sz="3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0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矩形 1"/>
          <p:cNvSpPr/>
          <p:nvPr/>
        </p:nvSpPr>
        <p:spPr>
          <a:xfrm>
            <a:off x="1042920" y="1773360"/>
            <a:ext cx="676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楷体"/>
                <a:ea typeface="楷体"/>
              </a:rPr>
              <a:t>对早期痴呆患者要尽可能帮助其保持日常生活习惯和卫生习惯，起居、穿衣、刷牙、洗脸等，尽可能让患者自己完成。对后期病情较重的患者，在限制其活动的同时，要根据病情做好肢体的被动运动，保持肢体的正常功能，防止关节畸形和肌肉萎缩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0259D-CC98-4E96-A83A-ADFD43C6A03F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/>
          </p:nvPr>
        </p:nvSpPr>
        <p:spPr>
          <a:xfrm>
            <a:off x="933120" y="2646000"/>
            <a:ext cx="7095960" cy="33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药物治疗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只是老年性痴呆症防治措施中的一个环节。对轻度痴呆症患者，这些药物能在一定程度上改善痴呆症状或延缓痴呆进展。临床常用药物有改善脑代谢药（海得琴）、改善认知功能药（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AChE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）、神经保护剂（维生素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E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）等。近年来在神经肽、神经生长因子和中草药等方面的研究也较多，并取得了一定程度的进展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ts val="29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ts val="29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97" name="Rectangle 5"/>
          <p:cNvSpPr/>
          <p:nvPr/>
        </p:nvSpPr>
        <p:spPr>
          <a:xfrm>
            <a:off x="900000" y="1917720"/>
            <a:ext cx="6048360" cy="571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华文新魏"/>
              </a:rPr>
              <a:t>（五）药物应用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8" name="Rectangle 5"/>
          <p:cNvSpPr/>
          <p:nvPr/>
        </p:nvSpPr>
        <p:spPr>
          <a:xfrm>
            <a:off x="500040" y="642960"/>
            <a:ext cx="5425920" cy="7351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endParaRPr b="0" lang="en-US" sz="3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0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71680" y="785520"/>
            <a:ext cx="5425920" cy="6634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2060"/>
                </a:solidFill>
                <a:latin typeface="华文新魏"/>
                <a:ea typeface="华文新魏"/>
              </a:rPr>
              <a:t>五、康复护理指导</a:t>
            </a:r>
            <a:endParaRPr b="1" lang="en-US" sz="3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00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F46A7-1A22-48D6-A2F7-BA0910CB1509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826560" y="1916280"/>
            <a:ext cx="7201080" cy="371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ts val="4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70c0"/>
                </a:solidFill>
                <a:latin typeface="楷体"/>
              </a:rPr>
              <a:t>（一）生活护理</a:t>
            </a:r>
            <a:endParaRPr b="1" lang="en-US" sz="2600" spc="-1" strike="noStrike">
              <a:solidFill>
                <a:srgbClr val="0070c0"/>
              </a:solidFill>
              <a:latin typeface="楷体"/>
            </a:endParaRPr>
          </a:p>
          <a:p>
            <a:pPr>
              <a:lnSpc>
                <a:spcPts val="4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 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日常生活用品放置位置固定</a:t>
            </a:r>
            <a:endParaRPr b="1" lang="en-US" sz="2400" spc="-1" strike="noStrike">
              <a:solidFill>
                <a:srgbClr val="0070c0"/>
              </a:solidFill>
              <a:latin typeface="楷体"/>
            </a:endParaRPr>
          </a:p>
          <a:p>
            <a:pPr>
              <a:lnSpc>
                <a:spcPts val="4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不断强化患者对色彩、食物的辨认</a:t>
            </a:r>
            <a:endParaRPr b="1" lang="en-US" sz="2400" spc="-1" strike="noStrike">
              <a:solidFill>
                <a:srgbClr val="0070c0"/>
              </a:solidFill>
              <a:latin typeface="楷体"/>
            </a:endParaRPr>
          </a:p>
          <a:p>
            <a:pPr>
              <a:lnSpc>
                <a:spcPts val="4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评估患者的残存功能</a:t>
            </a:r>
            <a:endParaRPr b="1" lang="en-US" sz="2400" spc="-1" strike="noStrike">
              <a:solidFill>
                <a:srgbClr val="0070c0"/>
              </a:solidFill>
              <a:latin typeface="楷体"/>
            </a:endParaRPr>
          </a:p>
          <a:p>
            <a:pPr>
              <a:lnSpc>
                <a:spcPts val="4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对精神兴奋型或狂躁患者，适当给予小剂量安眠药或镇静剂，以保证其睡眠</a:t>
            </a:r>
            <a:endParaRPr b="1" lang="en-US" sz="24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0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829FA-F8F8-49E6-A853-F8A02CAF5E0C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/>
          </p:nvPr>
        </p:nvSpPr>
        <p:spPr>
          <a:xfrm>
            <a:off x="826560" y="1773360"/>
            <a:ext cx="7201080" cy="371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70c0"/>
                </a:solidFill>
                <a:latin typeface="楷体"/>
              </a:rPr>
              <a:t>（二）心理护理</a:t>
            </a:r>
            <a:endParaRPr b="1" lang="en-US" sz="2600" spc="-1" strike="noStrike">
              <a:solidFill>
                <a:srgbClr val="0070c0"/>
              </a:solidFill>
              <a:latin typeface="楷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心理护理的主要目的是使患者感觉良好，告诉他曾经的事，他会因为护士的存在而安静下来。这需要很多的交流技巧，患者的病情不断恶化，对待患者的技巧也不断变化，护士要善于了解老人的需要，要相互讨论，与医生讨论，找出最好的帮助患者的办法。</a:t>
            </a:r>
            <a:endParaRPr b="1" lang="en-US" sz="24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04" name="Rectangle 5"/>
          <p:cNvSpPr/>
          <p:nvPr/>
        </p:nvSpPr>
        <p:spPr>
          <a:xfrm>
            <a:off x="571680" y="785880"/>
            <a:ext cx="5425920" cy="6634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2060"/>
                </a:solidFill>
                <a:latin typeface="华文新魏"/>
                <a:ea typeface="华文新魏"/>
              </a:rPr>
              <a:t>五、康复护理指导</a:t>
            </a:r>
            <a:endParaRPr b="0" lang="en-US" sz="3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0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7F515-3ADF-44EC-9782-E4636BEE5231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/>
          </p:nvPr>
        </p:nvSpPr>
        <p:spPr>
          <a:xfrm>
            <a:off x="826560" y="1916280"/>
            <a:ext cx="7201080" cy="371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（三）饮食护理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痴呆患者餐具要安全，不要用刀叉之类餐具，食物要软滑、简单方便，多吃水果、蔬菜，多食富含卵磷脂食物</a:t>
            </a: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(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主要有大豆、蛋黄、动物肝脏、鱼类、芝麻等</a:t>
            </a: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)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。每次吞咽后嘱患者反复做几次空咽运动，确保食物全部咽下，以防噎食及呛咳。进食时必须有人照看，以免呛入气管而窒息死亡。</a:t>
            </a:r>
            <a:endParaRPr b="1" lang="en-US" sz="24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07" name="Rectangle 5"/>
          <p:cNvSpPr/>
          <p:nvPr/>
        </p:nvSpPr>
        <p:spPr>
          <a:xfrm>
            <a:off x="571680" y="785880"/>
            <a:ext cx="5425920" cy="6634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2060"/>
                </a:solidFill>
                <a:latin typeface="华文新魏"/>
                <a:ea typeface="华文新魏"/>
              </a:rPr>
              <a:t>五、康复护理指导</a:t>
            </a:r>
            <a:endParaRPr b="0" lang="en-US" sz="3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0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57D90-EC6A-4F10-8088-FE02C2E3FB6B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/>
          </p:nvPr>
        </p:nvSpPr>
        <p:spPr>
          <a:xfrm>
            <a:off x="826560" y="2133720"/>
            <a:ext cx="7201080" cy="371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ts val="4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楷体"/>
              </a:rPr>
              <a:t>（四）安全护理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lnSpc>
                <a:spcPts val="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1. </a:t>
            </a:r>
            <a:r>
              <a:rPr b="1" lang="zh-CN" sz="24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进食  餐具、光线、过烫</a:t>
            </a:r>
            <a:endParaRPr b="1" lang="en-US" sz="24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lnSpc>
                <a:spcPts val="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2. </a:t>
            </a:r>
            <a:r>
              <a:rPr b="1" lang="zh-CN" sz="24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居住  宽敞、整洁、地面要防滑，床边有护栏</a:t>
            </a:r>
            <a:endParaRPr b="1" lang="en-US" sz="24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lnSpc>
                <a:spcPts val="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3. </a:t>
            </a:r>
            <a:r>
              <a:rPr b="1" lang="zh-CN" sz="24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衣着  宽松、柔软、</a:t>
            </a:r>
            <a:endParaRPr b="1" lang="en-US" sz="24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lnSpc>
                <a:spcPts val="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4. </a:t>
            </a:r>
            <a:r>
              <a:rPr b="1" lang="zh-CN" sz="24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行为  嘱患者不要单独外出，给患者口袋里放 </a:t>
            </a:r>
            <a:endParaRPr b="1" lang="en-US" sz="24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lnSpc>
                <a:spcPts val="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           </a:t>
            </a:r>
            <a:r>
              <a:rPr b="1" lang="zh-CN" sz="24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一张安全卡</a:t>
            </a:r>
            <a:endParaRPr b="1" lang="en-US" sz="24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10" name="Rectangle 5"/>
          <p:cNvSpPr/>
          <p:nvPr/>
        </p:nvSpPr>
        <p:spPr>
          <a:xfrm>
            <a:off x="571680" y="785880"/>
            <a:ext cx="5425920" cy="6634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2060"/>
                </a:solidFill>
                <a:latin typeface="华文新魏"/>
                <a:ea typeface="华文新魏"/>
              </a:rPr>
              <a:t>五、康复护理指导</a:t>
            </a:r>
            <a:endParaRPr b="0" lang="en-US" sz="3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0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06509-554A-4D11-A64C-0468B0B686A6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/>
          </p:nvPr>
        </p:nvSpPr>
        <p:spPr>
          <a:xfrm>
            <a:off x="933480" y="1846080"/>
            <a:ext cx="7742160" cy="410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ts val="3399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1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．年龄的增长是老年痴呆最危险的因素。而糖尿病、高脂血症、高血压、心脏病、抽烟、肥胖症等都与老年痴呆症的高风险有关。</a:t>
            </a:r>
            <a:endParaRPr b="1" lang="en-US" sz="24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2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．老年痴呆主要功能障碍包括记忆障碍、语言障碍、视空间技能障碍、失用和失认、判断和计算障碍、精神功能性精神障碍以及自理能力障碍。</a:t>
            </a:r>
            <a:endParaRPr b="1" lang="en-US" sz="24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lnSpc>
                <a:spcPts val="3399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lnSpc>
                <a:spcPts val="29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lnSpc>
                <a:spcPts val="29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title"/>
          </p:nvPr>
        </p:nvSpPr>
        <p:spPr>
          <a:xfrm>
            <a:off x="500040" y="642960"/>
            <a:ext cx="5425920" cy="7351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小  结</a:t>
            </a:r>
            <a:endParaRPr b="1" lang="en-US" sz="3400" spc="-1" strike="noStrike">
              <a:solidFill>
                <a:srgbClr val="00206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0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FF646-CE3B-4D9E-A5AD-F2C0A6F50453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/>
          </p:nvPr>
        </p:nvSpPr>
        <p:spPr>
          <a:xfrm>
            <a:off x="933120" y="1846080"/>
            <a:ext cx="7095960" cy="410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3399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3</a:t>
            </a:r>
            <a:r>
              <a:rPr b="1" lang="zh-CN" sz="24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．康复护理评估  可从痴呆筛选量表、记忆力、注意力评定、老年痴呆的身体功能评估量表三大方面进行综合评定。</a:t>
            </a:r>
            <a:r>
              <a:rPr b="1" lang="zh-CN" sz="24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	</a:t>
            </a:r>
            <a:endParaRPr b="1" lang="en-US" sz="24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ts val="3399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4</a:t>
            </a:r>
            <a:r>
              <a:rPr b="1" lang="zh-CN" sz="24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．康复护理措施  老年痴呆患者的康复护理，一般围绕着记忆训练、注意力训练以及其他认知功能的训练等环节进行。</a:t>
            </a:r>
            <a:endParaRPr b="1" lang="en-US" sz="24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ts val="3399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5</a:t>
            </a:r>
            <a:r>
              <a:rPr b="1" lang="zh-CN" sz="24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．康复护理指导  加强心理护理，鼓励患者生活自理，同时做好饮食护理，重点在于安全护理。</a:t>
            </a:r>
            <a:endParaRPr b="1" lang="en-US" sz="24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ts val="29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ts val="29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title"/>
          </p:nvPr>
        </p:nvSpPr>
        <p:spPr>
          <a:xfrm>
            <a:off x="500040" y="642960"/>
            <a:ext cx="5425920" cy="7351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小  结</a:t>
            </a:r>
            <a:endParaRPr b="1" lang="en-US" sz="3400" spc="-1" strike="noStrike">
              <a:solidFill>
                <a:srgbClr val="00206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nodeType="clickEffect" fill="hold">
                      <p:stCondLst>
                        <p:cond delay="0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F0C02-2D10-4557-AE4D-CDC3D506AB93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571680" y="1857240"/>
            <a:ext cx="7480080" cy="308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老年期痴呆是指发生在老年期（≥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60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岁）的一种获得性、持续性、全面性的智能损害综合征，即由器质性脑损害导致的不可逆的认知功能和社会生活能力降低。临床特征以慢性起病、大脑退行性改变、全面智能损害为特点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目前，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AD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尚无满意的治疗方法。专家指出，老年痴呆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  <a:ea typeface="华文新魏"/>
              </a:rPr>
              <a:t>重在康复护理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title"/>
          </p:nvPr>
        </p:nvSpPr>
        <p:spPr>
          <a:xfrm>
            <a:off x="642960" y="785880"/>
            <a:ext cx="485784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2060"/>
                </a:solidFill>
                <a:latin typeface="华文新魏"/>
                <a:ea typeface="华文新魏"/>
              </a:rPr>
              <a:t>一、老年痴呆</a:t>
            </a:r>
            <a:r>
              <a:rPr b="1" lang="en-US" sz="3600" spc="-1" strike="noStrike">
                <a:solidFill>
                  <a:srgbClr val="002060"/>
                </a:solidFill>
                <a:latin typeface="华文新魏"/>
                <a:ea typeface="华文新魏"/>
              </a:rPr>
              <a:t>—</a:t>
            </a:r>
            <a:r>
              <a:rPr b="1" lang="zh-CN" sz="3600" spc="-1" strike="noStrike">
                <a:solidFill>
                  <a:srgbClr val="002060"/>
                </a:solidFill>
                <a:latin typeface="华文新魏"/>
                <a:ea typeface="华文新魏"/>
              </a:rPr>
              <a:t>定  义</a:t>
            </a:r>
            <a:endParaRPr b="1" lang="en-US" sz="3600" spc="-1" strike="noStrike">
              <a:solidFill>
                <a:srgbClr val="00206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BCFF4-AFEF-4DCD-9235-B14B0754F73F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571320" y="2285640"/>
            <a:ext cx="7072200" cy="31431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占老年人死亡的第</a:t>
            </a:r>
            <a:r>
              <a:rPr b="1" lang="en-US" sz="22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4</a:t>
            </a:r>
            <a:r>
              <a:rPr b="1" lang="zh-CN" sz="22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位</a:t>
            </a:r>
            <a:endParaRPr b="1" lang="en-US" sz="22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ts val="4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每年</a:t>
            </a:r>
            <a:r>
              <a:rPr b="1" lang="en-US" sz="22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9</a:t>
            </a:r>
            <a:r>
              <a:rPr b="1" lang="zh-CN" sz="22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月</a:t>
            </a:r>
            <a:r>
              <a:rPr b="1" lang="en-US" sz="22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21</a:t>
            </a:r>
            <a:r>
              <a:rPr b="1" lang="zh-CN" sz="22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日为“世界老年痴呆日”</a:t>
            </a:r>
            <a:endParaRPr b="1" lang="en-US" sz="22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ts val="4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美国</a:t>
            </a:r>
            <a:r>
              <a:rPr b="1" lang="en-US" sz="22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65</a:t>
            </a:r>
            <a:r>
              <a:rPr b="1" lang="zh-CN" sz="22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岁以上老人中，</a:t>
            </a:r>
            <a:r>
              <a:rPr b="1" lang="en-US" sz="22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6</a:t>
            </a:r>
            <a:r>
              <a:rPr b="1" lang="zh-CN" sz="22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％～</a:t>
            </a:r>
            <a:r>
              <a:rPr b="1" lang="en-US" sz="22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8</a:t>
            </a:r>
            <a:r>
              <a:rPr b="1" lang="zh-CN" sz="22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％患老年性痴呆</a:t>
            </a:r>
            <a:endParaRPr b="1" lang="en-US" sz="22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ts val="4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日本</a:t>
            </a:r>
            <a:r>
              <a:rPr b="1" lang="en-US" sz="22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65</a:t>
            </a:r>
            <a:r>
              <a:rPr b="1" lang="zh-CN" sz="22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岁以上老年性痴呆患病率</a:t>
            </a:r>
            <a:r>
              <a:rPr b="1" lang="en-US" sz="22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2</a:t>
            </a:r>
            <a:r>
              <a:rPr b="1" lang="zh-CN" sz="22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％～</a:t>
            </a:r>
            <a:r>
              <a:rPr b="1" lang="en-US" sz="22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11</a:t>
            </a:r>
            <a:r>
              <a:rPr b="1" lang="zh-CN" sz="22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％</a:t>
            </a:r>
            <a:endParaRPr b="1" lang="en-US" sz="22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ts val="4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我国老年人口中痴呆的患病率占总人口的</a:t>
            </a:r>
            <a:r>
              <a:rPr b="1" lang="en-US" sz="22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4%~5%</a:t>
            </a:r>
            <a:endParaRPr b="1" lang="en-US" sz="2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title"/>
          </p:nvPr>
        </p:nvSpPr>
        <p:spPr>
          <a:xfrm>
            <a:off x="500040" y="571680"/>
            <a:ext cx="536904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2060"/>
                </a:solidFill>
                <a:latin typeface="华文新魏"/>
                <a:ea typeface="华文新魏"/>
              </a:rPr>
              <a:t>一、老年痴呆</a:t>
            </a:r>
            <a:r>
              <a:rPr b="1" lang="en-US" sz="3400" spc="-1" strike="noStrike">
                <a:solidFill>
                  <a:srgbClr val="002060"/>
                </a:solidFill>
                <a:latin typeface="华文新魏"/>
                <a:ea typeface="华文新魏"/>
              </a:rPr>
              <a:t>—</a:t>
            </a:r>
            <a:r>
              <a:rPr b="1" lang="zh-CN" sz="3400" spc="-1" strike="noStrike">
                <a:solidFill>
                  <a:srgbClr val="002060"/>
                </a:solidFill>
                <a:latin typeface="华文新魏"/>
                <a:ea typeface="华文新魏"/>
              </a:rPr>
              <a:t>流行病学</a:t>
            </a:r>
            <a:endParaRPr b="1" lang="en-US" sz="3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11" name="Rectangle 5"/>
          <p:cNvSpPr/>
          <p:nvPr/>
        </p:nvSpPr>
        <p:spPr>
          <a:xfrm>
            <a:off x="7858080" y="2143080"/>
            <a:ext cx="714600" cy="3000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ff"/>
                </a:solidFill>
                <a:latin typeface="华文新魏"/>
                <a:ea typeface="华文新魏"/>
              </a:rPr>
              <a:t>年轻化倾向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5A8A6-AF8C-44AB-B89C-F6AB59A8B6BB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285480" y="1857240"/>
            <a:ext cx="8358120" cy="37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65~85</a:t>
            </a: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岁老年人中好发</a:t>
            </a: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——</a:t>
            </a: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年龄增长是最危险因素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与遗传有关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糖尿病、高脂血症、高血压、心脏病、抽烟、肥胖症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环境和其他非基因因素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ts val="4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title"/>
          </p:nvPr>
        </p:nvSpPr>
        <p:spPr>
          <a:xfrm>
            <a:off x="499680" y="571680"/>
            <a:ext cx="535788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2060"/>
                </a:solidFill>
                <a:latin typeface="华文新魏"/>
                <a:ea typeface="华文新魏"/>
              </a:rPr>
              <a:t>一、老年痴呆</a:t>
            </a:r>
            <a:r>
              <a:rPr b="1" lang="en-US" sz="3400" spc="-1" strike="noStrike">
                <a:solidFill>
                  <a:srgbClr val="002060"/>
                </a:solidFill>
                <a:latin typeface="华文新魏"/>
                <a:ea typeface="华文新魏"/>
              </a:rPr>
              <a:t>—</a:t>
            </a:r>
            <a:r>
              <a:rPr b="1" lang="zh-CN" sz="3400" spc="-1" strike="noStrike">
                <a:solidFill>
                  <a:srgbClr val="002060"/>
                </a:solidFill>
                <a:latin typeface="华文新魏"/>
                <a:ea typeface="华文新魏"/>
              </a:rPr>
              <a:t>病 因</a:t>
            </a:r>
            <a:endParaRPr b="1" lang="en-US" sz="3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15" name="线形标注 1 12"/>
          <p:cNvSpPr/>
          <p:nvPr/>
        </p:nvSpPr>
        <p:spPr>
          <a:xfrm>
            <a:off x="6040440" y="3851280"/>
            <a:ext cx="2347920" cy="857160"/>
          </a:xfrm>
          <a:prstGeom prst="borderCallout1">
            <a:avLst>
              <a:gd name="adj1" fmla="val 18750"/>
              <a:gd name="adj2" fmla="val -8333"/>
              <a:gd name="adj3" fmla="val -2740"/>
              <a:gd name="adj4" fmla="val -81694"/>
            </a:avLst>
          </a:prstGeom>
          <a:solidFill>
            <a:srgbClr val="ccff33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高风险因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1680" y="571680"/>
            <a:ext cx="6000480" cy="5918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2060"/>
                </a:solidFill>
                <a:latin typeface="华文新魏"/>
                <a:ea typeface="华文新魏"/>
              </a:rPr>
              <a:t>一、老年痴呆</a:t>
            </a:r>
            <a:r>
              <a:rPr b="1" lang="en-US" sz="3400" spc="-1" strike="noStrike">
                <a:solidFill>
                  <a:srgbClr val="002060"/>
                </a:solidFill>
                <a:latin typeface="华文新魏"/>
                <a:ea typeface="华文新魏"/>
              </a:rPr>
              <a:t>—</a:t>
            </a:r>
            <a:r>
              <a:rPr b="1" lang="zh-CN" sz="3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分 类</a:t>
            </a:r>
            <a:endParaRPr b="1" lang="en-US" sz="3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17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C79A3-AA11-4CB7-B151-190D48A6668F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Rectangle 3"/>
          <p:cNvSpPr/>
          <p:nvPr/>
        </p:nvSpPr>
        <p:spPr>
          <a:xfrm>
            <a:off x="428760" y="2286000"/>
            <a:ext cx="795960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447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原发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447840" indent="-447840" algn="just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华文新魏"/>
                <a:ea typeface="华文新魏"/>
              </a:rPr>
              <a:t>AD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47840" indent="-447840" algn="just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华文新魏"/>
                <a:ea typeface="华文新魏"/>
              </a:rPr>
              <a:t>VD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47840" indent="-447840" algn="just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华文新魏"/>
                <a:ea typeface="华文新魏"/>
              </a:rPr>
              <a:t>混合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继发性：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  <a:ea typeface="华文新魏"/>
              </a:rPr>
              <a:t>脑血管疾病、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中毒、帕金森病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   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脑外伤后遗症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0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矩形 1"/>
          <p:cNvSpPr/>
          <p:nvPr/>
        </p:nvSpPr>
        <p:spPr>
          <a:xfrm>
            <a:off x="684360" y="1166760"/>
            <a:ext cx="806436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案例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6-7A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楷体"/>
                <a:ea typeface="楷体"/>
              </a:rPr>
              <a:t>刘某，男，</a:t>
            </a:r>
            <a:r>
              <a:rPr b="1" lang="en-US" sz="2600" spc="-1" strike="noStrike">
                <a:solidFill>
                  <a:srgbClr val="046ca6"/>
                </a:solidFill>
                <a:latin typeface="楷体"/>
                <a:ea typeface="楷体"/>
              </a:rPr>
              <a:t>78</a:t>
            </a:r>
            <a:r>
              <a:rPr b="1" lang="zh-CN" sz="2600" spc="-1" strike="noStrike">
                <a:solidFill>
                  <a:srgbClr val="046ca6"/>
                </a:solidFill>
                <a:latin typeface="楷体"/>
                <a:ea typeface="楷体"/>
              </a:rPr>
              <a:t>岁， 一年前经常怀疑子女为了房产加害他，恐惧、多疑、失眠，在当地心理医院诊断为老年期精神障碍，服用奥氮平配合中药治疗，疗效尚可，之后间断服用奥氮平。一月前患者怀疑自己肺部长了肿瘤，反复去医院检查结果阴性，患者能认识到该想法是错误的但不能自我控制，恐惧、紧张、失眠、出汗、记忆力减退，服用奥氮平</a:t>
            </a:r>
            <a:r>
              <a:rPr b="1" lang="en-US" sz="2600" spc="-1" strike="noStrike">
                <a:solidFill>
                  <a:srgbClr val="046ca6"/>
                </a:solidFill>
                <a:latin typeface="楷体"/>
                <a:ea typeface="楷体"/>
              </a:rPr>
              <a:t>10</a:t>
            </a:r>
            <a:r>
              <a:rPr b="1" lang="zh-CN" sz="2600" spc="-1" strike="noStrike">
                <a:solidFill>
                  <a:srgbClr val="046ca6"/>
                </a:solidFill>
                <a:latin typeface="楷体"/>
                <a:ea typeface="楷体"/>
              </a:rPr>
              <a:t>毫克，</a:t>
            </a:r>
            <a:r>
              <a:rPr b="1" lang="en-US" sz="2600" spc="-1" strike="noStrike">
                <a:solidFill>
                  <a:srgbClr val="046ca6"/>
                </a:solidFill>
                <a:latin typeface="楷体"/>
                <a:ea typeface="楷体"/>
              </a:rPr>
              <a:t>1/</a:t>
            </a:r>
            <a:r>
              <a:rPr b="1" lang="zh-CN" sz="2600" spc="-1" strike="noStrike">
                <a:solidFill>
                  <a:srgbClr val="046ca6"/>
                </a:solidFill>
                <a:latin typeface="楷体"/>
                <a:ea typeface="楷体"/>
              </a:rPr>
              <a:t>日，疗效不明显，医生建议停用奥氮平改用氟哌啶醇控制行为和精神症。并增加促智药物。血生化、胸部</a:t>
            </a:r>
            <a:r>
              <a:rPr b="1" lang="en-US" sz="2600" spc="-1" strike="noStrike">
                <a:solidFill>
                  <a:srgbClr val="046ca6"/>
                </a:solidFill>
                <a:latin typeface="楷体"/>
                <a:ea typeface="楷体"/>
              </a:rPr>
              <a:t>CT</a:t>
            </a:r>
            <a:r>
              <a:rPr b="1" lang="zh-CN" sz="2600" spc="-1" strike="noStrike">
                <a:solidFill>
                  <a:srgbClr val="046ca6"/>
                </a:solidFill>
                <a:latin typeface="楷体"/>
                <a:ea typeface="楷体"/>
              </a:rPr>
              <a:t>、心电图、胃镜检查均未见明显异常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问题与思考：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该患者会出现哪些功能障碍？应怎样进行评估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Oval 2"/>
          <p:cNvSpPr/>
          <p:nvPr/>
        </p:nvSpPr>
        <p:spPr>
          <a:xfrm rot="21365400">
            <a:off x="6824160" y="3041280"/>
            <a:ext cx="1430640" cy="111456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Oval 3"/>
          <p:cNvSpPr/>
          <p:nvPr/>
        </p:nvSpPr>
        <p:spPr>
          <a:xfrm rot="15001200">
            <a:off x="5868000" y="4726440"/>
            <a:ext cx="995400" cy="171432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Oval 4"/>
          <p:cNvSpPr/>
          <p:nvPr/>
        </p:nvSpPr>
        <p:spPr>
          <a:xfrm rot="21402000">
            <a:off x="3308400" y="5823000"/>
            <a:ext cx="1272960" cy="826920"/>
          </a:xfrm>
          <a:prstGeom prst="ellipse">
            <a:avLst/>
          </a:prstGeom>
          <a:solidFill>
            <a:srgbClr val="ccff33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Oval 5"/>
          <p:cNvSpPr/>
          <p:nvPr/>
        </p:nvSpPr>
        <p:spPr>
          <a:xfrm rot="15138600">
            <a:off x="1236960" y="4264560"/>
            <a:ext cx="1352520" cy="887400"/>
          </a:xfrm>
          <a:prstGeom prst="ellipse">
            <a:avLst/>
          </a:prstGeom>
          <a:solidFill>
            <a:srgbClr val="ccff33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Oval 6"/>
          <p:cNvSpPr/>
          <p:nvPr/>
        </p:nvSpPr>
        <p:spPr>
          <a:xfrm>
            <a:off x="5716440" y="1857240"/>
            <a:ext cx="1881360" cy="9241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Oval 7"/>
          <p:cNvSpPr/>
          <p:nvPr/>
        </p:nvSpPr>
        <p:spPr>
          <a:xfrm rot="21366000">
            <a:off x="3462480" y="1463400"/>
            <a:ext cx="1620720" cy="1030320"/>
          </a:xfrm>
          <a:prstGeom prst="ellipse">
            <a:avLst/>
          </a:prstGeom>
          <a:solidFill>
            <a:srgbClr val="ccff33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6" name="Oval 8"/>
          <p:cNvSpPr/>
          <p:nvPr/>
        </p:nvSpPr>
        <p:spPr>
          <a:xfrm rot="17594400">
            <a:off x="1559520" y="2437200"/>
            <a:ext cx="1193760" cy="107172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Oval 9"/>
          <p:cNvSpPr/>
          <p:nvPr/>
        </p:nvSpPr>
        <p:spPr>
          <a:xfrm>
            <a:off x="3573360" y="3143160"/>
            <a:ext cx="1789200" cy="164304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8" name="Text Box 12"/>
          <p:cNvSpPr/>
          <p:nvPr/>
        </p:nvSpPr>
        <p:spPr>
          <a:xfrm>
            <a:off x="3994200" y="350208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功能障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Text Box 16"/>
          <p:cNvSpPr/>
          <p:nvPr/>
        </p:nvSpPr>
        <p:spPr>
          <a:xfrm>
            <a:off x="2357280" y="1500120"/>
            <a:ext cx="172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0" name="Text Box 17"/>
          <p:cNvSpPr/>
          <p:nvPr/>
        </p:nvSpPr>
        <p:spPr>
          <a:xfrm>
            <a:off x="3714840" y="1498680"/>
            <a:ext cx="129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宋体"/>
              </a:rPr>
              <a:t>精神功能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Text Box 18"/>
          <p:cNvSpPr/>
          <p:nvPr/>
        </p:nvSpPr>
        <p:spPr>
          <a:xfrm>
            <a:off x="6073920" y="1857240"/>
            <a:ext cx="137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宋体"/>
              </a:rPr>
              <a:t>视空间技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Text Box 19"/>
          <p:cNvSpPr/>
          <p:nvPr/>
        </p:nvSpPr>
        <p:spPr>
          <a:xfrm rot="265200">
            <a:off x="1733040" y="2606400"/>
            <a:ext cx="94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宋体"/>
              </a:rPr>
              <a:t>记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3" name="Text Box 20"/>
          <p:cNvSpPr/>
          <p:nvPr/>
        </p:nvSpPr>
        <p:spPr>
          <a:xfrm rot="177600">
            <a:off x="1655280" y="4235760"/>
            <a:ext cx="86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宋体"/>
              </a:rPr>
              <a:t>语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Text Box 21"/>
          <p:cNvSpPr/>
          <p:nvPr/>
        </p:nvSpPr>
        <p:spPr>
          <a:xfrm rot="20956200">
            <a:off x="7035840" y="3121560"/>
            <a:ext cx="129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宋体"/>
              </a:rPr>
              <a:t>失用、失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Text Box 22"/>
          <p:cNvSpPr/>
          <p:nvPr/>
        </p:nvSpPr>
        <p:spPr>
          <a:xfrm rot="20736600">
            <a:off x="5826960" y="5108760"/>
            <a:ext cx="134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宋体"/>
              </a:rPr>
              <a:t>判断、计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6" name="Text Box 23"/>
          <p:cNvSpPr/>
          <p:nvPr/>
        </p:nvSpPr>
        <p:spPr>
          <a:xfrm>
            <a:off x="3500280" y="6000840"/>
            <a:ext cx="107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宋体"/>
              </a:rPr>
              <a:t>运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" name="Line 26"/>
          <p:cNvSpPr/>
          <p:nvPr/>
        </p:nvSpPr>
        <p:spPr>
          <a:xfrm flipH="1" flipV="1">
            <a:off x="4356000" y="2565000"/>
            <a:ext cx="100080" cy="50652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Line 27"/>
          <p:cNvSpPr/>
          <p:nvPr/>
        </p:nvSpPr>
        <p:spPr>
          <a:xfrm flipV="1">
            <a:off x="5364000" y="2781000"/>
            <a:ext cx="582840" cy="72684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Line 28"/>
          <p:cNvSpPr/>
          <p:nvPr/>
        </p:nvSpPr>
        <p:spPr>
          <a:xfrm>
            <a:off x="5356080" y="4286160"/>
            <a:ext cx="513000" cy="87156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Line 29"/>
          <p:cNvSpPr/>
          <p:nvPr/>
        </p:nvSpPr>
        <p:spPr>
          <a:xfrm flipV="1">
            <a:off x="5435640" y="3718080"/>
            <a:ext cx="1297080" cy="6984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" name="Line 30"/>
          <p:cNvSpPr/>
          <p:nvPr/>
        </p:nvSpPr>
        <p:spPr>
          <a:xfrm flipH="1">
            <a:off x="4071600" y="4714920"/>
            <a:ext cx="142920" cy="107136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2" name="Line 31"/>
          <p:cNvSpPr/>
          <p:nvPr/>
        </p:nvSpPr>
        <p:spPr>
          <a:xfrm flipH="1">
            <a:off x="2428560" y="4143240"/>
            <a:ext cx="857160" cy="35748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3" name="Line 32"/>
          <p:cNvSpPr/>
          <p:nvPr/>
        </p:nvSpPr>
        <p:spPr>
          <a:xfrm flipH="1" flipV="1">
            <a:off x="2787120" y="3143160"/>
            <a:ext cx="946440" cy="29232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4" name="Rectangle 5"/>
          <p:cNvSpPr/>
          <p:nvPr/>
        </p:nvSpPr>
        <p:spPr>
          <a:xfrm>
            <a:off x="428760" y="571680"/>
            <a:ext cx="607212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2060"/>
                </a:solidFill>
                <a:latin typeface="华文新魏"/>
                <a:ea typeface="华文新魏"/>
              </a:rPr>
              <a:t>主要功能障碍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赵欣</cp:lastModifiedBy>
  <dcterms:modified xsi:type="dcterms:W3CDTF">2015-12-15T09:45:56Z</dcterms:modified>
  <cp:revision>14</cp:revision>
  <dc:subject/>
  <dc:title>第一章 儿科疾病的护理</dc:title>
</cp:coreProperties>
</file>